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8FB1-CB0E-4B6B-9041-6F580638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3A5B-3A83-4CD0-85FF-2AAA64C2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2D63-3F05-4A5A-807E-BAC420EE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14B4-5798-48AA-B871-80F391573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2F50-7935-405B-BD6F-E5E62804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05CC-C865-402D-BC86-D6F0F059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AABE-7D0F-4E6A-9C1A-0981C805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D12E-347A-49F3-91B1-7FB939B6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644D-5B99-4F87-8E32-F2995E78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F605-3749-45C4-AD7B-241DF626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D77D-A9B5-4E43-8B19-E1EF262D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1E0-B1C6-4407-8617-5A2CC9AE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99EB-6546-40E1-814E-2282C7D9C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8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241740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Khalil’s frozen Tre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68520" y="4368600"/>
            <a:ext cx="702288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best Treat in the world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t is sold in all the finest restaurants all around the world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hort n’ sweat Khalil’s Tre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M UM GOO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910040"/>
            <a:ext cx="1778040" cy="2710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550360" y="4656240"/>
            <a:ext cx="1609560" cy="2963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635200" cy="2879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978360" y="1015920"/>
            <a:ext cx="2859120" cy="1968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84600" y="659160"/>
            <a:ext cx="37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 just we love our 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